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7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BD3-3EC9-4C26-AF64-66F09BBA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2AB-877D-4550-BEEB-35810A83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5F3-0224-4762-B02C-6B096CCE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843-9470-4218-8EAE-6D884A0F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7A9-3A9A-4865-898E-3ED596B0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B34-818D-4321-A850-880D926C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380-13B0-43E6-A70C-10E209C0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05D-A7F7-4E20-BCF9-2A72A144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3E9-1329-4B8C-B0D2-ABF36A56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139-12F4-47B9-9444-29407578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45B-1A02-405A-9095-8C658A95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63A-81EF-49D0-9A68-8E99A6B1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FC1E-5756-4076-9E4C-C588C7CB6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4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9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0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IL TRAFFICO GIORNALIERO ME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l traffico giornaliero medio è il parametro fondamentale con il quale viene  quantificato il traffico sulle s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l valore viene calcolato con “la formula di Ginevra”, utilizzata dall’ANAS dal 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TOTALE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= 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DIURNO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+ 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NOTTU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l 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DIURNO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d il 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NOTTURNO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ono a loro volta funzione del TGM rilevato in ben precisi giorni dell’anno rispettivamente dalle 7.00 alle 19.00 e dalle 19.00 alle 7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1600200"/>
          <a:ext cx="7391520" cy="4084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00200"/>
                    <a:ext cx="739152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1447920"/>
          <a:ext cx="7772400" cy="421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47920"/>
                    <a:ext cx="777240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percentuale del traffico pesante e legg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447920"/>
          <a:ext cx="2914560" cy="205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447920"/>
                    <a:ext cx="29145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657600" y="1447920"/>
          <a:ext cx="2666880" cy="2047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447920"/>
                    <a:ext cx="266688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477120" y="1523880"/>
          <a:ext cx="2352600" cy="1905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1523880"/>
                    <a:ext cx="2352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33520" y="3581280"/>
          <a:ext cx="2666880" cy="20005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3581280"/>
                    <a:ext cx="266688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809880" y="3581280"/>
          <a:ext cx="2590920" cy="20257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581280"/>
                    <a:ext cx="259092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477120" y="3657600"/>
          <a:ext cx="2438280" cy="18716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3657600"/>
                    <a:ext cx="24382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percentuale del traffico pesante e legg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447920"/>
          <a:ext cx="2504880" cy="205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47920"/>
                    <a:ext cx="2504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200400" y="3657600"/>
          <a:ext cx="2771640" cy="198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3657600"/>
                    <a:ext cx="27716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095880" y="3581280"/>
          <a:ext cx="2648160" cy="2000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3581280"/>
                    <a:ext cx="26481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048120" y="1447920"/>
          <a:ext cx="2628720" cy="19810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1447920"/>
                    <a:ext cx="26287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095880" y="1447920"/>
          <a:ext cx="2505240" cy="19717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1447920"/>
                    <a:ext cx="25052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04920" y="3733920"/>
          <a:ext cx="2733480" cy="1990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920" y="3733920"/>
                    <a:ext cx="273348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percentuale del traffico pesante e legg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71600" y="1676520"/>
          <a:ext cx="2610000" cy="2009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676520"/>
                    <a:ext cx="2610000" cy="20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638680" y="1676520"/>
          <a:ext cx="2629080" cy="2028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676520"/>
                    <a:ext cx="26290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791320" y="3886200"/>
          <a:ext cx="2485800" cy="2009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3886200"/>
                    <a:ext cx="24858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295280" y="4038480"/>
          <a:ext cx="2733840" cy="1981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4038480"/>
                    <a:ext cx="2733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LE CATEGORIE VEICOL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I dati di traffico rilevati dall’ANAS sono disaggregati per categorie di veic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Le categorie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motovei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vetture con meno di 10 p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carri con peso totale a carico autorizzato inferiore a 3 tonnel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carri con peso totale a carico autorizzato superiore a 3 tonnel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carri con rimorc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trattori con semirimorc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veicoli e insieme di autoveicoli accoppiati destinati a traspor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eccezionali o adibiti ad usi spec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veicoli agri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Viene definito </a:t>
            </a:r>
            <a:r>
              <a:rPr b="0" lang="it-IT" sz="2000" spc="-1" strike="noStrike" u="sng">
                <a:solidFill>
                  <a:srgbClr val="ffff66"/>
                </a:solidFill>
                <a:uFillTx/>
                <a:latin typeface="Times New Roman"/>
              </a:rPr>
              <a:t>traffico giornaliero medio leggero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il TGM dato dalla somma dei TGM relativi alle prime tre catego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La somma dei TGM relativi alle altre categorie fornisce il valore del </a:t>
            </a:r>
            <a:r>
              <a:rPr b="0" lang="it-IT" sz="2000" spc="-1" strike="noStrike" u="sng">
                <a:solidFill>
                  <a:srgbClr val="ffff66"/>
                </a:solidFill>
                <a:uFillTx/>
                <a:latin typeface="Times New Roman"/>
              </a:rPr>
              <a:t>traffico giornaliero medio pes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IL RILEV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L’ubicazione dei posti di rilevamento ha formato oggetto di accurato studio per escludere le zone interessate in modo preminente dal traffico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La distanza fra i posti di rilevamento varia a seconda della strada statale e oscilla mediamente fra i 30 ed i 5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741996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600200"/>
                    <a:ext cx="7419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371600" y="1371600"/>
          <a:ext cx="6473880" cy="4602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371600"/>
                    <a:ext cx="647388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90720" y="1447920"/>
          <a:ext cx="7467480" cy="4259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447920"/>
                    <a:ext cx="746748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90720" y="1981080"/>
          <a:ext cx="7507080" cy="35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981080"/>
                    <a:ext cx="750708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1523880"/>
          <a:ext cx="7088400" cy="4206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523880"/>
                    <a:ext cx="708840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414440"/>
          <a:ext cx="7696080" cy="424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14440"/>
                    <a:ext cx="769608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10:15:44Z</dcterms:created>
  <dc:creator>ut14183</dc:creator>
  <dc:description/>
  <dc:language>en-US</dc:language>
  <cp:lastModifiedBy>AMB-EMISS</cp:lastModifiedBy>
  <cp:lastPrinted>2001-06-13T13:50:46Z</cp:lastPrinted>
  <dcterms:modified xsi:type="dcterms:W3CDTF">2001-06-13T15:30:04Z</dcterms:modified>
  <cp:revision>22</cp:revision>
  <dc:subject/>
  <dc:title>IL TGM</dc:title>
</cp:coreProperties>
</file>